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3BB-5902-46E9-975D-EE8759D1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9B7-0ACB-4B3F-A433-9FC4C032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FEA-0448-4871-AF84-2C3DCF7A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0F8-95C0-44AA-94D1-112CEB30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1F5D5-AFC6-4555-B0D2-388EF01C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61153-B0AB-4CF3-8B15-3F682CA6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75A4C-5386-4F60-A3A7-E22EA208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DCEBF-09BB-484F-ADB7-A782209B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D9E76-70FF-4E3D-A535-F806F396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F929E-CCE4-44DD-9DAE-3EB8420F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135EE-0C62-4BF5-8CF1-E94FD7CC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E54E-20A4-40CB-B7C9-F152AC65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72AAF-DCAE-4DE2-ACB0-CD8FC7DA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A4956-E7FA-4EA1-B022-444DCC88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03F3F-F204-47B6-9978-63F62877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CFD45-20C4-4466-AACB-D207E36B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F0A8C-11DA-4EC7-BCB4-5F9BAAF1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D47-33FD-4681-B4B4-55504F5F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35A-5607-4203-8616-B8FAC4ED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5BC-91B2-4498-8C2F-78BB680C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C65-3A44-4ED4-9FE9-3F10BD0C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6C5-FD50-400B-9397-5C1B9189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F1A-38C8-490B-B704-48797FBC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326-30A6-4CC8-A43E-1DB7B001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ABEE-1416-4A84-BB49-4E0731CAE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E941-ECB8-46A7-A1F9-8CE9D755C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La Cas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251460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                </a:t>
            </a:r>
            <a:r>
              <a:rPr b="1" lang="en-US" sz="3200" spc="-1" strike="noStrike" u="sng">
                <a:solidFill>
                  <a:srgbClr val="00c600"/>
                </a:solidFill>
                <a:uFillTx/>
                <a:latin typeface="Tahoma"/>
              </a:rPr>
              <a:t>Por Tommy Coll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6172200" cy="327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bano es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  <a:ea typeface="Tahoma"/>
              </a:rPr>
              <a:t>pequeña y vie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324840" cy="5261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sala es grande lujo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5505480" cy="3670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backyard es grande y boni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52480" y="2666880"/>
            <a:ext cx="4967280" cy="3719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garaje es moderno y bell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1676520"/>
            <a:ext cx="6639120" cy="44542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82240" cy="4510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3808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Mi patio es grande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y el fabulo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sala es estupendola y moder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6858000" cy="4570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Mi cocina es </a:t>
            </a:r>
            <a:r>
              <a:rPr b="1" lang="en-US" sz="3200" spc="-1" strike="noStrike">
                <a:solidFill>
                  <a:srgbClr val="00c600"/>
                </a:solidFill>
                <a:latin typeface="Tahoma"/>
                <a:ea typeface="Tahoma"/>
              </a:rPr>
              <a:t>bonita no es pequeñ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7257960" cy="4105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cuatro es lujoso y nue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5600520" cy="3730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cuatro es increible y bell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6019920" cy="3504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cuatro no es antiguo y vie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734160" cy="4701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piscina es magnifico y impresio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6005520" cy="3351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piscina es magnifico y impresio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828800" y="2548080"/>
            <a:ext cx="4876920" cy="3316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13:06Z</dcterms:created>
  <dc:creator>collinstho</dc:creator>
  <dc:description/>
  <dc:language>en-US</dc:language>
  <cp:lastModifiedBy>collinstho</cp:lastModifiedBy>
  <dcterms:modified xsi:type="dcterms:W3CDTF">2013-04-04T15:40:36Z</dcterms:modified>
  <cp:revision>10</cp:revision>
  <dc:subject/>
  <dc:title>La Casa </dc:title>
</cp:coreProperties>
</file>